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E87-B3D0-4E8F-858D-C2F3848B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949-44FA-48FD-9DBD-5ADA0F87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2DF-BE82-4EE1-A6CB-E022ED86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6E9-48F0-4B0F-BE57-D37BB3F9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1B74-AE31-491F-A575-4B7A0512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84FB-4D37-4724-BF6E-2C60317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7DDC-F5AD-4C7B-ACAE-834C8B0E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629-24CA-4EB0-A3EA-3567536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FB52-4892-4A94-B7A9-1ADCD10E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F00-F279-4FCE-946F-0BEB0ABF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CCAD-C28B-4DDC-B899-BA2DFC87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C85-8685-46A5-AE91-186703A1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93D3-6A77-4729-AF9F-A5CADBB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8E83-85CC-4EEA-95DB-E599796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6DB9-5581-43B4-92CD-D864D272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FCFD-D7C9-4B99-8C7C-A642E9B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016F-3A4B-405E-80F5-B63C5AEF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E9C-FB84-4E2E-96C9-61DDC565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D08-A1C3-458A-A7A2-AAE735E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4CD-B469-4340-9759-5CFF20E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374-551F-459D-B03A-1C4E586C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1B8-4E29-4A1C-8C70-97B1122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B9A-4A6E-4F3F-8951-C7E55E5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FB5-6459-4E16-A5B4-71D0E06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1030-F2E5-4191-8FBE-A51A390EE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F23-E53E-48AE-9E33-952BCED36D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МОТИВ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два фактор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ктори хигије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гу да мотивишу, али уколико нису испуњени могу да изазову незадовољ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ктори мотивациј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гу да демотивишу, али уколико су испуњени могу да мотив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остављања циљев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 идеја теорије је да људи пореде своје тренутне способности да нешто ураде са способностима потребним за успешно остварење циљ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љеви као мотив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ба да буд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асно о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лзивни, али достиж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за мерење достигн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равичност / једнакост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 идеја теорије је да људи налазе мотивацију у поређењу са другим људима са којима р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и елементи теор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 која се упоређу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 са којом се упоређује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ств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ств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обе са којом се поре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особе са којом се поре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равичност / једнакост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о резултат поређења могућа с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и ис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Једнак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једнакост због преплаћ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једнакост због потплаћ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случају неједнак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обе реагују на следеће начин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сво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сво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ерцепцију сопстве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ерцепц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 друг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особу са којом се по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осао или орга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очекивањ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и елементи теор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чеки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ложени труд ће донети резул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струментал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д ће бити награђ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лент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града се перципира као вре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кивање   Инструменталност   Валент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3"/>
          <p:cNvSpPr/>
          <p:nvPr/>
        </p:nvSpPr>
        <p:spPr>
          <a:xfrm>
            <a:off x="228600" y="41148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ложени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4952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5"/>
          <p:cNvSpPr/>
          <p:nvPr/>
        </p:nvSpPr>
        <p:spPr>
          <a:xfrm>
            <a:off x="2590920" y="41148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Резулт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6"/>
          <p:cNvSpPr/>
          <p:nvPr/>
        </p:nvSpPr>
        <p:spPr>
          <a:xfrm>
            <a:off x="7238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ични циљ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Arrow 7"/>
          <p:cNvSpPr/>
          <p:nvPr/>
        </p:nvSpPr>
        <p:spPr>
          <a:xfrm>
            <a:off x="205740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8"/>
          <p:cNvSpPr/>
          <p:nvPr/>
        </p:nvSpPr>
        <p:spPr>
          <a:xfrm>
            <a:off x="678168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9"/>
          <p:cNvSpPr/>
          <p:nvPr/>
        </p:nvSpPr>
        <p:spPr>
          <a:xfrm>
            <a:off x="441972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d147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1"/>
          <p:cNvCxnSpPr/>
          <p:nvPr/>
        </p:nvCxnSpPr>
        <p:spPr>
          <a:xfrm flipH="1">
            <a:off x="1523160" y="510516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6" name="Straight Arrow Connector 13"/>
          <p:cNvCxnSpPr/>
          <p:nvPr/>
        </p:nvCxnSpPr>
        <p:spPr>
          <a:xfrm flipH="1">
            <a:off x="6171480" y="502884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7" name="Straight Arrow Connector 14"/>
          <p:cNvCxnSpPr/>
          <p:nvPr/>
        </p:nvCxnSpPr>
        <p:spPr>
          <a:xfrm flipH="1">
            <a:off x="3733200" y="510516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пови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1676520"/>
          <a:ext cx="8686800" cy="4952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52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јални подстица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јални подстица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рект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а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о окруж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јални оси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а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нор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зионо оси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говор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ад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н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потвр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резен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о осигур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имљиви за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зно радно вр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шњи од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ед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ла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о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мбени кре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овање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Појам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мотив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и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атинс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ves, mov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р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1 Деф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ја је потреба или жеља која служи да подстакне (појача) понашање и усмери га према циљ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2 Деф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утрашњи услов који наводи на акцију (менталну, бихевиорал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е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асловљева хијерархија по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ориј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еорија два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еорија постављања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еорија праведности / једна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Теорија очек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Isosceles Triangle 4"/>
          <p:cNvSpPr/>
          <p:nvPr/>
        </p:nvSpPr>
        <p:spPr>
          <a:xfrm>
            <a:off x="1295280" y="1981080"/>
            <a:ext cx="4800600" cy="449604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962520" y="28195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самопотврђи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962520" y="35053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пошто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962520" y="41911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припад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62520" y="48769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сигурнош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62520" y="55627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потр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752480"/>
          <a:ext cx="8686800" cy="4953240"/>
        </p:xfrm>
        <a:graphic>
          <a:graphicData uri="http://schemas.openxmlformats.org/drawingml/2006/table">
            <a:tbl>
              <a:tblPr/>
              <a:tblGrid>
                <a:gridCol w="2590920"/>
                <a:gridCol w="6095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шке потр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храном, водом, ваздухом, одећом, становањем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сигурношћ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физичком и психичком сигурношћу, заштитом од спољног утицаја. Сталност посла, пензионо и здравствено осигурањ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рипадањ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а за припадањем нација, организацији, групи, религији. Пријатељство и љу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оштовањ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оштовањем од стране некога и самопоштовањем. Репутација, статус, престиж, моћ, признањ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самоактуелизациј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личним развојем и остваривањем пуног потенциј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ји хијерархија од пет потреба или пет нивоа потр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јединци се не могу помакнути на следећи виши ниво све док потребе на тренутном нижем нивоу нису задовољ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 се поједина потреба задовољи, следећа потреба постаје доминантна потр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ак преко нивоа потреба могућ је једино према наведеној хијерарх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X </a:t>
            </a: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а различита погле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запосле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орија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рди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желе да раде што то је мање могу могуће тако да менаџери морају да их контрол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имају мало амбиција и не воле одговор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се опиру промен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X </a:t>
            </a: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орија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рди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ма није у природи да одбијају пос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могу бити креативни у решавању проблема постизању циљева организ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су спремни да прихвате и траже одговор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имају потенцијал за развој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два фактор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1905120"/>
          <a:ext cx="761976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ребе нижег степена – Хигијенске 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ребе вишег нивоа – Фактори мотив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 р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ке и процедуре у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урност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говор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са руководиоц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едов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са колег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4T08:02:26Z</dcterms:modified>
  <cp:revision>198</cp:revision>
  <dc:subject/>
  <dc:title>Soft and Hard Skills Development: A Current Situation in Serbian Companies</dc:title>
</cp:coreProperties>
</file>